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3ED7-221F-4AB3-B722-464551BDD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C605-15EB-48D8-B47E-DBC7C21B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9AE-B3E9-4630-87A7-D6A35CFA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DBF3-7E51-4527-9649-021E7711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F4CF-CD24-4CDB-AF24-CC9F62EA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D8C-F394-4E1E-8DB0-1AB64419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0141-CD67-481E-8590-610BB6D3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A3AA-9151-4002-9306-DE4E2599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60D1-7120-4DF9-9C0F-15F11851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97D9-2BFA-4577-8EBD-D06F470B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3AB5-E40A-4EBE-BA1F-020844A4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5B06-B711-4DC3-91CC-3781BD13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A513-8E76-46FA-B353-3C20A8EB4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изилмия(Лакрица)нинг  иктисодий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OT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тахлил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6320" y="685800"/>
          <a:ext cx="8915400" cy="5346720"/>
        </p:xfrm>
        <a:graphic>
          <a:graphicData uri="http://schemas.openxmlformats.org/drawingml/2006/table">
            <a:tbl>
              <a:tblPr/>
              <a:tblGrid>
                <a:gridCol w="2743200"/>
                <a:gridCol w="1977840"/>
                <a:gridCol w="2138400"/>
                <a:gridCol w="205596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унликла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ифликла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кониятла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аммола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Шурдорликни  камайтира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Кизилмиянинг колдикларининг ундан кейинги экинларга салбий таъси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Шурдор ерларда Кизилмиядан кейин экилган пахта ва бугдой хосилдорлиги нисбатан 3-6 марта ошиши мум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Кизилмия илдизини сотиш ва маркетинг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Чорвага 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Кизилмияга бозор талаби камли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Кизилмия илдизи -экспорт махсуло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Кизилмияга махаллий фармацевтика сохасидан талабнинг урганилмаганли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Кизилмия илдизи озик-овкат ва фармацевтика сохалари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Кизилмия экишни молиялаш кийинчиликла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Кизилмия билан бир вактда бошка шурдорликка чидамли экинларни экиб кушимча фойда олса булади (Мисол: Жугар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Дастлабки хисоб-китобларга кура, кизилмиянинг узидан гектариг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минг сумдан  475 минг сумгача соф даромад олса була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05120" y="6858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лланиш сохалар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1523880"/>
            <a:ext cx="8076600" cy="3276000"/>
            <a:chOff x="533520" y="1523880"/>
            <a:chExt cx="8076600" cy="3276000"/>
          </a:xfrm>
        </p:grpSpPr>
        <p:sp>
          <p:nvSpPr>
            <p:cNvPr id="45" name=""/>
            <p:cNvSpPr/>
            <p:nvPr/>
          </p:nvSpPr>
          <p:spPr>
            <a:xfrm>
              <a:off x="3364200" y="1523880"/>
              <a:ext cx="2498040" cy="996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изилмия илдизи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281400" y="3802680"/>
              <a:ext cx="2498040" cy="99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зик-овкат саноати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112080" y="3802680"/>
              <a:ext cx="2498040" cy="99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Лак ва буёк саноати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65520" y="195120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862240" y="1951200"/>
              <a:ext cx="133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65520" y="1951200"/>
              <a:ext cx="0" cy="185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30240" y="2520360"/>
              <a:ext cx="0" cy="128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194960" y="1951200"/>
              <a:ext cx="0" cy="185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3520" y="3802680"/>
              <a:ext cx="2498040" cy="99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армацевти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295280" y="4267080"/>
            <a:ext cx="403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28600" y="685800"/>
          <a:ext cx="8229600" cy="538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229600" cy="53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28600" y="1447920"/>
          <a:ext cx="8610480" cy="320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61048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04920" y="533520"/>
          <a:ext cx="822960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82296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3520" y="457200"/>
          <a:ext cx="815328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81532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914400" y="399960"/>
          <a:ext cx="7315200" cy="605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99960"/>
                    <a:ext cx="7315200" cy="605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изилмия илдизи маркетин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6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вжуд харидор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66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зука МЧ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668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гели-2, Тошкен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68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00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68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збекист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68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л: + 998 71 5836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68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акс: +998 71 5852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68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l: combek@mail.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68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9T06:44:28Z</dcterms:created>
  <dc:creator>MBL 2002 FEB</dc:creator>
  <dc:description/>
  <dc:language>en-US</dc:language>
  <cp:lastModifiedBy>user</cp:lastModifiedBy>
  <dcterms:modified xsi:type="dcterms:W3CDTF">2006-05-30T04:26:49Z</dcterms:modified>
  <cp:revision>24</cp:revision>
  <dc:subject/>
  <dc:title>Кизил Мия(Лакрица)нинг  иктисодий тахлили (SWOT)</dc:title>
</cp:coreProperties>
</file>